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E90-47C1-4976-B2E9-6889D222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74D-B7ED-4655-AFC3-0AE98A58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B54-928B-44C3-B80B-6AD6A3A6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459-FF0D-4C4E-85E8-07B61464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B7E-93DF-4A51-85C9-13AAE1C3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5DB-CCBD-438D-A1AE-17E80829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BF2-1E70-4E0B-8AFC-132BDB23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C98-84F1-42C7-8CDC-880C8883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C8F-AA30-4BA7-AD3A-14237782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EBD-B1FD-443C-8F49-5F6085C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C80-142A-428B-8A08-7021CFCE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D1D-EF7C-458E-84C5-3F6D123D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0C12-39CB-4266-B938-F531DE585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40044ekIzaANufR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304920"/>
            <a:ext cx="2895480" cy="10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َرتُ أن أحبَّ الأكملَ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رتُ عِشقَ فادينا الحب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رتُ أن أُضحّي جسَد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ساكباً للدمّ في الكأسِ الرهيب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48786bKuLjeoRng_ph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19920" y="0"/>
            <a:ext cx="2895480" cy="86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ستمعني أيها الكونُ الخشوع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سماءُ إسمعيني واشهَد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ملاكَ اللهِ خُذِ القَسَمَ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حوَ عرشِ المُتعالِ الأبد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56:26Z</dcterms:created>
  <dc:creator>SUZANNE.MD</dc:creator>
  <dc:description/>
  <dc:language>en-US</dc:language>
  <cp:lastModifiedBy>USER</cp:lastModifiedBy>
  <dcterms:modified xsi:type="dcterms:W3CDTF">2003-01-10T12:58:23Z</dcterms:modified>
  <cp:revision>2</cp:revision>
  <dc:subject/>
  <dc:title>PowerPoint Presentation</dc:title>
</cp:coreProperties>
</file>